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1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695-56C8-4A03-8D46-19644C5B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C9EA-F4BA-4ABA-9300-1CDDF9C1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CF0-11F0-4B1F-9D58-193F5D3D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945-0DD1-4467-8FF4-056E68BF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A9F9-D8BC-43C2-8B7C-8CFEF68E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E86-94CB-4DCB-81BD-01DC8B02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039-6EB2-49DD-A6B3-82EB3188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A14C-1090-42B7-8085-827C8F82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601-31E0-4F88-A5C4-221AEFF0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3F45-88A6-46FB-B5CA-BB7230A9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7C96-8911-4097-B1B9-3A121D9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750-100D-4456-AF7B-207A5BA6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9F01-08DB-41B9-A2F9-7523F7302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Lifeguard_jumping_into_action,_Ocean_City,_June_27_,2007.jpg" TargetMode="External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File:RedYellowFlag.jpg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sunsmart.com.au/browse.asp?ContainerID=1534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image" Target="../media/image25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edYellowFlag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86600">
            <a:off x="2340000" y="691920"/>
            <a:ext cx="4392720" cy="21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WATER SAFETY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58920" y="5516640"/>
            <a:ext cx="6518160" cy="87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BY CLAUDIA LAY SENIOR J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6920" y="4724280"/>
            <a:ext cx="7705800" cy="8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705800" cy="295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87280" cy="117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007480" y="0"/>
            <a:ext cx="1136520" cy="112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5716440"/>
            <a:ext cx="1150920" cy="1141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007480" y="5730840"/>
            <a:ext cx="11365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92600" y="191916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92600" y="5532480"/>
            <a:ext cx="142920" cy="10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755640" y="4941720"/>
          <a:ext cx="7682040" cy="1647720"/>
        </p:xfrm>
        <a:graphic>
          <a:graphicData uri="http://schemas.openxmlformats.org/drawingml/2006/table">
            <a:tbl>
              <a:tblPr/>
              <a:tblGrid>
                <a:gridCol w="2068560"/>
                <a:gridCol w="3155760"/>
                <a:gridCol w="24577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GE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Y AFLOAT AND WA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  </a:t>
                      </a:r>
                      <a:r>
                        <a:rPr b="0" lang="en-US" sz="6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H TO RESC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Boat"/>
          <p:cNvPicPr/>
          <p:nvPr/>
        </p:nvPicPr>
        <p:blipFill>
          <a:blip r:embed="rId5"/>
          <a:stretch/>
        </p:blipFill>
        <p:spPr>
          <a:xfrm>
            <a:off x="755640" y="5589720"/>
            <a:ext cx="1523880" cy="10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Josh Wav"/>
          <p:cNvPicPr/>
          <p:nvPr/>
        </p:nvPicPr>
        <p:blipFill>
          <a:blip r:embed="rId6"/>
          <a:stretch/>
        </p:blipFill>
        <p:spPr>
          <a:xfrm>
            <a:off x="3780000" y="5589720"/>
            <a:ext cx="1523880" cy="104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River Save"/>
          <p:cNvPicPr/>
          <p:nvPr/>
        </p:nvPicPr>
        <p:blipFill>
          <a:blip r:embed="rId7"/>
          <a:stretch/>
        </p:blipFill>
        <p:spPr>
          <a:xfrm>
            <a:off x="6804000" y="5589720"/>
            <a:ext cx="1523880" cy="1038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835280" y="260280"/>
            <a:ext cx="56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WATER SAFETY TIPS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413000"/>
            <a:ext cx="8352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You must always swim between the red and yellow fl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lways read the signs before swimming or anything e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lways swim with a adult, never swim al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Never jump or dive into shallow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aise your hand when needed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lways swim where there are life gu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The box jellyfish is the most dangerous jellyf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The stone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Blue ring oct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Cone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Stingrays (any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Salt water crocod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Sharks of (any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Comic Sans MS"/>
              </a:rPr>
              <a:t>Try not to panic if you have got bitten sting or anything e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87280" y="549360"/>
            <a:ext cx="6696360" cy="259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angerous creatures at the beach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Blue-ringed Octopus"/>
          <p:cNvPicPr/>
          <p:nvPr/>
        </p:nvPicPr>
        <p:blipFill>
          <a:blip r:embed="rId1"/>
          <a:stretch/>
        </p:blipFill>
        <p:spPr>
          <a:xfrm>
            <a:off x="4211640" y="2421000"/>
            <a:ext cx="1511280" cy="1039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Box Jellyfish"/>
          <p:cNvPicPr/>
          <p:nvPr/>
        </p:nvPicPr>
        <p:blipFill>
          <a:blip r:embed="rId2"/>
          <a:stretch/>
        </p:blipFill>
        <p:spPr>
          <a:xfrm>
            <a:off x="5796000" y="2421000"/>
            <a:ext cx="1440000" cy="10238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Conus geographus"/>
          <p:cNvPicPr/>
          <p:nvPr/>
        </p:nvPicPr>
        <p:blipFill>
          <a:blip r:embed="rId3"/>
          <a:stretch/>
        </p:blipFill>
        <p:spPr>
          <a:xfrm>
            <a:off x="7308720" y="3500280"/>
            <a:ext cx="1513080" cy="93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Stonefish"/>
          <p:cNvPicPr/>
          <p:nvPr/>
        </p:nvPicPr>
        <p:blipFill>
          <a:blip r:embed="rId4"/>
          <a:stretch/>
        </p:blipFill>
        <p:spPr>
          <a:xfrm>
            <a:off x="5724360" y="3500280"/>
            <a:ext cx="1513080" cy="933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A great white shark surges from the water off the coast of Cape Town, South Africa."/>
          <p:cNvPicPr/>
          <p:nvPr/>
        </p:nvPicPr>
        <p:blipFill>
          <a:blip r:embed="rId5"/>
          <a:stretch/>
        </p:blipFill>
        <p:spPr>
          <a:xfrm>
            <a:off x="7308720" y="2421000"/>
            <a:ext cx="1513080" cy="100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4211640" y="3500280"/>
            <a:ext cx="1465200" cy="93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Photo: A saltwater crocodile on a beach"/>
          <p:cNvPicPr/>
          <p:nvPr/>
        </p:nvPicPr>
        <p:blipFill>
          <a:blip r:embed="rId7"/>
          <a:stretch/>
        </p:blipFill>
        <p:spPr>
          <a:xfrm>
            <a:off x="5724360" y="4508640"/>
            <a:ext cx="151164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00360" y="122724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Comic Sans MS"/>
              </a:rPr>
              <a:t>Slip on a shirt, slop on sunscreen and slap on a hat and seek some shade and slide on some sunglasses. Remember to put on 15+ sunscreen and put it on again when you come out of th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3280" y="549360"/>
            <a:ext cx="6600960" cy="657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you should wear on the beach</a:t>
            </a:r>
            <a:endParaRPr b="0" lang="en-US" sz="1800" spc="1" strike="noStrike">
              <a:ln w="12600">
                <a:solidFill>
                  <a:srgbClr val="00ffff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/>
          <p:nvPr/>
        </p:nvSpPr>
        <p:spPr>
          <a:xfrm>
            <a:off x="430920" y="1124640"/>
            <a:ext cx="2652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't forget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en-US" sz="1800" spc="-1" strike="noStrike">
                <a:solidFill>
                  <a:srgbClr val="d73737"/>
                </a:solidFill>
                <a:latin typeface="Comic Sans MS"/>
              </a:rPr>
              <a:t>  </a:t>
            </a:r>
            <a:r>
              <a:rPr b="0" lang="en-US" sz="9900" spc="-1" strike="noStrike">
                <a:solidFill>
                  <a:srgbClr val="d73737"/>
                </a:solidFill>
                <a:latin typeface="Comic Sans MS"/>
              </a:rPr>
              <a:t> </a:t>
            </a:r>
            <a:r>
              <a:rPr b="0" lang="en-US" sz="1800" spc="-1" strike="noStrike">
                <a:solidFill>
                  <a:srgbClr val="d73737"/>
                </a:solidFill>
                <a:latin typeface="Comic Sans MS"/>
              </a:rPr>
              <a:t>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sun safe, slip, slop, slap and wrap on the sunnies"/>
          <p:cNvPicPr/>
          <p:nvPr/>
        </p:nvPicPr>
        <p:blipFill>
          <a:blip r:embed="rId1"/>
          <a:stretch/>
        </p:blipFill>
        <p:spPr>
          <a:xfrm>
            <a:off x="179280" y="1557360"/>
            <a:ext cx="2381400" cy="157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Sun protective cloth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12000" y="1268280"/>
            <a:ext cx="476280" cy="466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Sunscreen"/>
          <p:cNvPicPr/>
          <p:nvPr/>
        </p:nvPicPr>
        <p:blipFill>
          <a:blip r:embed="rId4"/>
          <a:stretch/>
        </p:blipFill>
        <p:spPr>
          <a:xfrm>
            <a:off x="7812000" y="1773360"/>
            <a:ext cx="476280" cy="46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Hat"/>
          <p:cNvPicPr/>
          <p:nvPr/>
        </p:nvPicPr>
        <p:blipFill>
          <a:blip r:embed="rId5"/>
          <a:stretch/>
        </p:blipFill>
        <p:spPr>
          <a:xfrm>
            <a:off x="7812000" y="2276640"/>
            <a:ext cx="476280" cy="466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Shade"/>
          <p:cNvPicPr/>
          <p:nvPr/>
        </p:nvPicPr>
        <p:blipFill>
          <a:blip r:embed="rId6"/>
          <a:stretch/>
        </p:blipFill>
        <p:spPr>
          <a:xfrm>
            <a:off x="7812000" y="2781360"/>
            <a:ext cx="476280" cy="466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Sunglasses"/>
          <p:cNvPicPr/>
          <p:nvPr/>
        </p:nvPicPr>
        <p:blipFill>
          <a:blip r:embed="rId7"/>
          <a:stretch/>
        </p:blipFill>
        <p:spPr>
          <a:xfrm>
            <a:off x="7812000" y="3284640"/>
            <a:ext cx="4762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995480" y="1557360"/>
          <a:ext cx="5154480" cy="517680"/>
        </p:xfrm>
        <a:graphic>
          <a:graphicData uri="http://schemas.openxmlformats.org/drawingml/2006/table">
            <a:tbl>
              <a:tblPr/>
              <a:tblGrid>
                <a:gridCol w="5154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004840" y="1566720"/>
          <a:ext cx="18288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Swimming&#10;Prohibited"/>
          <p:cNvPicPr/>
          <p:nvPr/>
        </p:nvPicPr>
        <p:blipFill>
          <a:blip r:embed="rId1"/>
          <a:stretch/>
        </p:blipFill>
        <p:spPr>
          <a:xfrm>
            <a:off x="250920" y="18900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Fishing&#10;Prohibited"/>
          <p:cNvPicPr/>
          <p:nvPr/>
        </p:nvPicPr>
        <p:blipFill>
          <a:blip r:embed="rId2"/>
          <a:stretch/>
        </p:blipFill>
        <p:spPr>
          <a:xfrm>
            <a:off x="108000" y="609300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Personal&#10;Watercraft&#10;Prohibited"/>
          <p:cNvPicPr/>
          <p:nvPr/>
        </p:nvPicPr>
        <p:blipFill>
          <a:blip r:embed="rId3"/>
          <a:stretch/>
        </p:blipFill>
        <p:spPr>
          <a:xfrm>
            <a:off x="8244000" y="115920"/>
            <a:ext cx="618840" cy="619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Surfing&#10;Prohibited"/>
          <p:cNvPicPr/>
          <p:nvPr/>
        </p:nvPicPr>
        <p:blipFill>
          <a:blip r:embed="rId4"/>
          <a:stretch/>
        </p:blipFill>
        <p:spPr>
          <a:xfrm>
            <a:off x="8317080" y="6093000"/>
            <a:ext cx="618840" cy="618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3357720" y="3376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4000680" y="3376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4643280" y="33764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5286240" y="33764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Diving&#10;Prohibited"/>
          <p:cNvPicPr/>
          <p:nvPr/>
        </p:nvPicPr>
        <p:blipFill>
          <a:blip r:embed="rId9"/>
          <a:stretch/>
        </p:blipFill>
        <p:spPr>
          <a:xfrm>
            <a:off x="4284720" y="11592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Boating&#10;Prohibited"/>
          <p:cNvPicPr/>
          <p:nvPr/>
        </p:nvPicPr>
        <p:blipFill>
          <a:blip r:embed="rId10"/>
          <a:stretch/>
        </p:blipFill>
        <p:spPr>
          <a:xfrm>
            <a:off x="250920" y="2997360"/>
            <a:ext cx="619200" cy="618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Bodyboards&#10;Prohibited"/>
          <p:cNvPicPr/>
          <p:nvPr/>
        </p:nvPicPr>
        <p:blipFill>
          <a:blip r:embed="rId11"/>
          <a:stretch/>
        </p:blipFill>
        <p:spPr>
          <a:xfrm>
            <a:off x="8388360" y="29242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5286240" y="357516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5286240" y="436716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765000"/>
            <a:ext cx="10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wimm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76500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d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920000" y="765000"/>
            <a:ext cx="12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personal wate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3645000"/>
            <a:ext cx="9367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bo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630864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is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51640" y="61657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urf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4720" y="29973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body bo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278136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68360" y="1699560"/>
            <a:ext cx="83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get caught in a rip, do not panic. Stay calm, float with the current and raise your hand, or swim across it not against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7:10:39Z</dcterms:created>
  <dc:creator>david</dc:creator>
  <dc:description/>
  <dc:language>en-US</dc:language>
  <cp:lastModifiedBy>david</cp:lastModifiedBy>
  <dcterms:modified xsi:type="dcterms:W3CDTF">2009-02-18T21:06:13Z</dcterms:modified>
  <cp:revision>4</cp:revision>
  <dc:subject/>
  <dc:title>Slide 1</dc:title>
</cp:coreProperties>
</file>